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874-CE75-4583-8573-579AA08D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1485-2422-4F6F-AC7D-0F6D4DED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778-135B-45F7-A8E2-7BEA0C6F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2B6-EE48-47C0-9AF9-84165D23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D14F-FC08-4B30-BBB6-279F9E81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90F2-6B31-48B0-9FB5-EF2583E8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0FB-9AF5-4124-A27F-12E9375F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27AA-5CBB-4A46-B3F2-B9A1BC0D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F50-F5C9-43B3-873B-0D5F2A10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DECF-3F76-495C-9B68-0271E7BF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2C28-49F1-462B-B5F0-31D8AE01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799-89A4-4281-8B25-F8591418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B86F-343F-49CE-A6E1-FF60DBE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C40C-4DA9-4EF7-BAB5-A6D3D725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0A2F-3991-44F7-B285-697DE3D0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D45C-3215-4956-890B-E5CDF997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F72E-76F0-4C7A-A275-B835D928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EFD-E031-4F5D-BDEC-E879F90A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7E6-F958-4B4C-9D4B-1ABB7F13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93D-32B2-44EC-8428-AF08A98C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FA3-9928-4FD9-BE49-7F8F772F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5CA-EE56-4B12-80D3-98CC41D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19E-118F-428D-BB38-05BC6F4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E54-2BCA-48F9-A7CE-941CEC42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2EE9-7106-4209-83AC-2D845B979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669F-E217-4705-A9BC-532B6D67A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İZLEDİĞİNİZ İÇİN HERHE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EŞEKKÜRLER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7T00:06:38Z</dcterms:created>
  <dc:creator>ala</dc:creator>
  <dc:description/>
  <dc:language>en-US</dc:language>
  <cp:lastModifiedBy>ala</cp:lastModifiedBy>
  <dcterms:modified xsi:type="dcterms:W3CDTF">2001-01-17T00:24:50Z</dcterms:modified>
  <cp:revision>1</cp:revision>
  <dc:subject/>
  <dc:title>İZLEDİĞİNİZ İÇİN HERHESE</dc:title>
</cp:coreProperties>
</file>