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D8C-4AE6-40E5-9EBE-24D28BDF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CDF-6DEE-4EFC-B8F6-14AC4F61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765-2EB5-4863-8800-FFABFE7C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EDC-9082-4548-8A97-4F4EF134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FA91-5EDC-4114-9D5E-0941FD78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AD0F-B127-47E9-A94B-59FDE5BA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21F2-84D2-440F-A31E-9D5C91B4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5B2F-58D3-4C4C-B56F-7C7FDEAC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2529-9F4F-469C-A4DC-C3351391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DC59-367C-4E22-B991-78BD2044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AE05-C511-4CB7-9A42-AB2AD18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A8F-E56B-49AA-8A0D-86551838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4D61-27F9-45BE-BBAB-4CDEEFE7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A6F3-B453-4CEF-9842-8285803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FF94-04F5-41FE-AD03-34CCD20E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9F7F-550F-4EA3-9AC9-163E216B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583E-3D94-41E7-A584-D81EF099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3C3-2589-45EA-8784-BDF79578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D5A-C729-4168-9B93-6B6BD36C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899-E078-4082-8173-D9AB8C63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6B9-8235-4B3A-B0B3-6B03103F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65A-8586-4115-9825-434795E3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1A2-29BF-4A5F-9308-5EA41F35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5B6-061A-43D9-8398-543BAF64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63E3-243E-4C6C-ACCC-D1648E1C5E89}" type="slidenum">
              <a:rPr b="0" lang="tr-TR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B1C4-6DCD-473C-83D9-5ABA796BE427}" type="slidenum">
              <a:rPr b="0" lang="tr-TR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482400"/>
                </a:solidFill>
                <a:latin typeface="Times New Roman"/>
              </a:rPr>
              <a:t>EXCEL - 2000</a:t>
            </a:r>
            <a:endParaRPr b="0" lang="en-US" sz="7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GÖRÜNÜM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ÜST BİLGİ ALTBİLG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AÇIKLAMA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ÖZEL GÖRÜNÜM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TAM EK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YAKINLAŞ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EKLE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HÜCR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ÜT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ÇALIŞMA SAYF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GRAFİ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YFA SO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EKLE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İŞL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AÇI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RESİ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NE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ÖPR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BİÇİM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HÜCR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ÜT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Y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OTOMATİK BİÇİ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OŞULLU BİÇİMLENDİR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Tİ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1676520"/>
            <a:ext cx="6858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k programlama ve hesaplama programlarının en popüler olanı </a:t>
            </a:r>
            <a:r>
              <a:rPr b="1" lang="tr-T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</a:t>
            </a:r>
            <a:r>
              <a:rPr b="0" lang="tr-T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ıdı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tr-TR" sz="6600" spc="-1" strike="noStrike">
                <a:solidFill>
                  <a:srgbClr val="482400"/>
                </a:solidFill>
                <a:latin typeface="Times New Roman"/>
              </a:rPr>
              <a:t>EXCEL – 2000</a:t>
            </a:r>
            <a:br>
              <a:rPr sz="6600"/>
            </a:br>
            <a:r>
              <a:rPr b="1" lang="tr-TR" sz="6600" spc="-1" strike="noStrike">
                <a:solidFill>
                  <a:srgbClr val="482400"/>
                </a:solidFill>
                <a:latin typeface="Times New Roman"/>
              </a:rPr>
              <a:t>MENÜLERİ</a:t>
            </a:r>
            <a:endParaRPr b="0" lang="en-US" sz="6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DOSYA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YEN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A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AP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AYD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FARKLI KAYD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WEB SAYFASI OLARAK KAYD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WEB SAYFASI ÖNİZL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DOSYA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YFA YA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YAZDIRMA AL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BASKI ÖNİZL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YAZ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GÖ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ÇIKI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DÜZEN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GERİ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YİN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OPY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YAPIŞ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ÖZEL YAPIŞ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DÜZEN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ÖPRÜ OLARAK YAPIŞ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DOLD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TEMİ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İ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YFAYI Sİ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YFAYI TAŞI VEYA KOPY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DÜZEN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B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DEĞİŞTİ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Gİ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BAĞLANT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NE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GÖRÜNÜM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YFA ÖNİZL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ARAÇ ÇUBUKL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FORMÜL ÇUBUĞ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DURUM ÇUBUĞ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2:03:01Z</dcterms:created>
  <dc:creator>hulya</dc:creator>
  <dc:description>Bu dökümanın ilk oolarak yayınlandığı adres
http://www.okoca.cjb.net</dc:description>
  <dc:language>en-US</dc:language>
  <cp:lastModifiedBy>hulya</cp:lastModifiedBy>
  <dcterms:modified xsi:type="dcterms:W3CDTF">2001-01-16T03:03:27Z</dcterms:modified>
  <cp:revision>1</cp:revision>
  <dc:subject/>
  <dc:title>EXCEL - 2000</dc:title>
</cp:coreProperties>
</file>