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15F4-1782-4072-957D-BE7D3999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A95F-530C-4A9C-900E-C8E8A1C1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3C76-8A55-44FD-B0F8-3DB56F13F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56ED-A38F-4204-AD43-006CE84CD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2600-F9B7-46C3-BF79-BBDFB557C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75EB-9CB0-4282-9C90-FE06B755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E187-85D7-4F6F-9980-D9BCA521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3D3B-441D-47ED-B443-852FC17B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120C-9447-4ACB-9633-FC853A63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373B-642E-4D56-A57C-694CC411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3C48-74E1-4897-81A1-A1587E98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1BE9-B958-40EF-B19A-EB79FAD2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D302-7002-472B-A15D-E6A8C2E6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3D25-83B3-4EFA-B010-290D5206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B27F6-4165-47C5-BAF4-0B48EE11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3AAE-A07C-4582-89A7-6E389A27B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F42F-7726-41FF-BFD4-105DF3258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1469-726D-4423-B363-E7AC89EB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9181-E049-4BC4-B064-8BD64797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588B-F766-416B-861E-15B1AA18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FB7D-37FB-43C8-9F48-16688F01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2BD8-1AAB-4D30-AA9E-476B880B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555D-72B8-43B7-9445-55E454C3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7DFD-D374-4474-8ADB-848CF72A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E2D6-AFF5-43C2-AC82-DF3A3CAD0E52}" type="slidenum">
              <a:rPr b="0" lang="tr-TR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AF35-1476-4C75-9069-5AA993E160B0}" type="slidenum">
              <a:rPr b="0" lang="tr-TR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26665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482400"/>
                </a:solidFill>
                <a:latin typeface="Times New Roman"/>
              </a:rPr>
              <a:t>EXCEL - 2000</a:t>
            </a:r>
            <a:endParaRPr b="0" lang="en-US" sz="72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482400"/>
                </a:solidFill>
                <a:latin typeface="Times New Roman"/>
              </a:rPr>
              <a:t>GÖRÜNÜM MENÜSÜ</a:t>
            </a:r>
            <a:endParaRPr b="0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25146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ÜST BİLGİ ALTBİLG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AÇIKLAMA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ÖZEL GÖRÜNÜM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TAM EKR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YAKINLAŞT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482400"/>
                </a:solidFill>
                <a:latin typeface="Times New Roman"/>
              </a:rPr>
              <a:t>EKLE MENÜSÜ</a:t>
            </a:r>
            <a:endParaRPr b="0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HÜCRE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SAT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SÜT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ÇALIŞMA SAYF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GRAFİ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SAYFA SO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482400"/>
                </a:solidFill>
                <a:latin typeface="Times New Roman"/>
              </a:rPr>
              <a:t>EKLE MENÜSÜ</a:t>
            </a:r>
            <a:endParaRPr b="0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İŞLE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AÇIKL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RESİ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NES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KÖPR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482400"/>
                </a:solidFill>
                <a:latin typeface="Times New Roman"/>
              </a:rPr>
              <a:t>BİÇİM MENÜSÜ</a:t>
            </a:r>
            <a:endParaRPr b="0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HÜCRE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SAT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SÜT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SAY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OTOMATİK BİÇİ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KOŞULLU BİÇİMLENDİR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STİ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47920" y="1676520"/>
            <a:ext cx="68580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ktronik programlama ve hesaplama programlarının en popüler olanı </a:t>
            </a:r>
            <a:r>
              <a:rPr b="1" lang="tr-T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L</a:t>
            </a:r>
            <a:r>
              <a:rPr b="0" lang="tr-T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gramıdır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tr-TR" sz="6600" spc="-1" strike="noStrike">
                <a:solidFill>
                  <a:srgbClr val="482400"/>
                </a:solidFill>
                <a:latin typeface="Times New Roman"/>
              </a:rPr>
              <a:t>EXCEL – 2000</a:t>
            </a:r>
            <a:br>
              <a:rPr sz="6600"/>
            </a:br>
            <a:r>
              <a:rPr b="1" lang="tr-TR" sz="6600" spc="-1" strike="noStrike">
                <a:solidFill>
                  <a:srgbClr val="482400"/>
                </a:solidFill>
                <a:latin typeface="Times New Roman"/>
              </a:rPr>
              <a:t>MENÜLERİ</a:t>
            </a:r>
            <a:endParaRPr b="0" lang="en-US" sz="66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482400"/>
                </a:solidFill>
                <a:latin typeface="Times New Roman"/>
              </a:rPr>
              <a:t>DOSYA MENÜSÜ</a:t>
            </a:r>
            <a:endParaRPr b="0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YEN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A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KAP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KAYD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FARKLI KAYD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WEB SAYFASI OLARAK KAYD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WEB SAYFASI ÖNİZL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482400"/>
                </a:solidFill>
                <a:latin typeface="Times New Roman"/>
              </a:rPr>
              <a:t>DOSYA MENÜSÜ</a:t>
            </a:r>
            <a:endParaRPr b="0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SAYFA YAPI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YAZDIRMA ALA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BASKI ÖNİZL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YAZD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GÖ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ÇIKI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482400"/>
                </a:solidFill>
                <a:latin typeface="Times New Roman"/>
              </a:rPr>
              <a:t>DÜZEN MENÜSÜ</a:t>
            </a:r>
            <a:endParaRPr b="0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GERİ 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YİN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K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KOPYA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YAPIŞT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ÖZEL YAPIŞT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482400"/>
                </a:solidFill>
                <a:latin typeface="Times New Roman"/>
              </a:rPr>
              <a:t>DÜZEN MENÜSÜ</a:t>
            </a:r>
            <a:endParaRPr b="0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KÖPRÜ OLARAK YAPIŞT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DOLD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TEMİZ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Sİ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SAYFAYI Sİ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SAYFAYI TAŞI VEYA KOPYA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482400"/>
                </a:solidFill>
                <a:latin typeface="Times New Roman"/>
              </a:rPr>
              <a:t>DÜZEN MENÜSÜ</a:t>
            </a:r>
            <a:endParaRPr b="0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B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DEĞİŞTİ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Gİ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BAĞLANTI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NES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482400"/>
                </a:solidFill>
                <a:latin typeface="Times New Roman"/>
              </a:rPr>
              <a:t>GÖRÜNÜM MENÜSÜ</a:t>
            </a:r>
            <a:endParaRPr b="0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25146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SAYFA ÖNİZL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ARAÇ ÇUBUKLA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FORMÜL ÇUBUĞ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DURUM ÇUBUĞ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6T02:03:01Z</dcterms:created>
  <dc:creator>hulya</dc:creator>
  <dc:description/>
  <dc:language>en-US</dc:language>
  <cp:lastModifiedBy>hulya</cp:lastModifiedBy>
  <dcterms:modified xsi:type="dcterms:W3CDTF">2001-01-16T03:03:27Z</dcterms:modified>
  <cp:revision>1</cp:revision>
  <dc:subject/>
  <dc:title>EXCEL - 2000</dc:title>
</cp:coreProperties>
</file>