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B45-1BC1-46A8-BA00-B86877C7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7BB-E6DF-49EF-8DDF-BFF94730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0B8-DCD4-48DF-AF95-E84B7C0C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8BD-7735-45A3-9D3C-797F1F50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A3D7-2561-436B-9871-E175C57F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8636-1A1A-470C-BE6A-A6B64774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C0C7-152B-48FD-8743-9629DE8A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BAC5-7372-41D7-BEC8-A6FC75B1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345F-FFE7-4AB2-BADF-2930010D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B2DE-9B09-4D27-ACB5-59E7D0D9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A458-B0AC-4D5C-9CF4-91367AAA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36A-65C3-45A5-A753-6C76A624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0011-8ED0-4998-A025-B544E1F4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C012-0DA3-4C9E-96AE-83E619AB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8B1A-9D78-4EDC-8390-E59C863B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B62F-92BF-472B-AE48-11781626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7E29-B4FA-4C94-BF82-D70304FC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CB5-4606-45AA-9A74-46D45762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4B1-7964-4945-8F95-934BBA34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CE3-A62D-4388-8293-59EB5F37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006-7640-4F37-98A9-BEE82B48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0D9-139E-4E8E-AC87-CA3DDFC9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2BF-1979-482B-BA76-2C8467EE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3C1-0759-4391-BFBF-DE03C24E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8E80-5DA8-447C-AD03-25B9A8DA4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DA74-B754-4129-9899-38BB71CE4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819520" y="342900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I..........:  İ.SAİ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YADI..:  BİLGİ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NIFI......:  4 -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............:  97030024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gazilogo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286000" cy="2127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24080" y="990720"/>
            <a:ext cx="4800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ENDÜSTRİYEL SANATLAR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EĞİTİM FAKÜLTES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BİLGİSAYAR EĞİTİMİ  BÖLÜM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76320"/>
            <a:ext cx="78483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kkat etmeniz gerekenlerden beşincisi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2720" y="1752480"/>
            <a:ext cx="59482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000066"/>
                </a:solidFill>
                <a:uFillTx/>
                <a:latin typeface="Times New Roman"/>
              </a:rPr>
              <a:t>APM (Advenced Power Management)</a:t>
            </a:r>
            <a:r>
              <a:rPr b="0" lang="tr-TR" sz="2800" spc="-1" strike="noStrike">
                <a:solidFill>
                  <a:srgbClr val="000066"/>
                </a:solidFill>
                <a:latin typeface="Times New Roman"/>
              </a:rPr>
              <a:t>  Bilgisayar başında olmadığınız zamanlarda elektrik tasarrufu sağlar.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8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99ff99"/>
                </a:solidFill>
                <a:latin typeface="Times New Roman"/>
              </a:rPr>
              <a:t>Elektrik tasarrufu için BIOS’ unuzu ayarlayı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494160"/>
            <a:ext cx="8305560" cy="2859840"/>
          </a:xfrm>
          <a:prstGeom prst="rect">
            <a:avLst/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imes New Roman"/>
              </a:rPr>
              <a:t>READY.........: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Modunda, %100 çalışmaya hazır bir şekilde kalı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imes New Roman"/>
              </a:rPr>
              <a:t>STANDBY....: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Modunda, uzun süre çalışmazsa, bilgisayar uyku moduna geç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imes New Roman"/>
              </a:rPr>
              <a:t>SUSPEND.....: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Modunda, bilgisayar tasarruf edebilmek için en ekonomik şekilde çalışı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Times New Roman"/>
              </a:rPr>
              <a:t>OFF ...............: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Modunda, bilgisayar elektrik tasarrufu yapma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imes New Roman"/>
              </a:rPr>
              <a:t>Elektrik tasarrufu için BIOS’un</a:t>
            </a:r>
            <a:r>
              <a:rPr b="0" lang="tr-T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tr-TR" sz="4400" spc="-1" strike="noStrike">
                <a:solidFill>
                  <a:srgbClr val="ff0000"/>
                </a:solidFill>
                <a:latin typeface="Times New Roman"/>
              </a:rPr>
              <a:t>Power Management Menüsü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5" name="power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553440" cy="4648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2514600"/>
            <a:ext cx="1295640" cy="22860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971800"/>
            <a:ext cx="1295640" cy="22860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429000"/>
            <a:ext cx="1295640" cy="22860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19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BUNUN İÇİ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806400"/>
            <a:ext cx="79246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kkat etmeniz gerekenlerden altıncısı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114800"/>
            <a:ext cx="3733920" cy="24382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bıos_features" descr=""/>
          <p:cNvPicPr/>
          <p:nvPr/>
        </p:nvPicPr>
        <p:blipFill>
          <a:blip r:embed="rId1"/>
          <a:stretch/>
        </p:blipFill>
        <p:spPr>
          <a:xfrm>
            <a:off x="4491000" y="1981080"/>
            <a:ext cx="4648320" cy="457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4920" y="158760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P II veya P III ‘lerde önbellek işlemci üzerindedir. Sık kullanılan bazı bilgiler önbellekte tutulur. Böylece bazı işlemler daha hızlı yapılır. Performansı artırmak içi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52448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0099"/>
                </a:solidFill>
                <a:latin typeface="Times New Roman"/>
              </a:rPr>
              <a:t>Bios Features Setup bölümde,“CPU Internal Cache”   ayarını “ENABLED” yapın</a:t>
            </a:r>
            <a:r>
              <a:rPr b="0" lang="tr-TR" sz="2800" spc="-1" strike="noStrike">
                <a:solidFill>
                  <a:srgbClr val="33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3124080"/>
            <a:ext cx="759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3124080"/>
            <a:ext cx="0" cy="1295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266720" y="44197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806400"/>
            <a:ext cx="79246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kkat etmeniz gerekenlerden yedincisi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np_pci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56236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2286000"/>
            <a:ext cx="2209680" cy="375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66"/>
                </a:solidFill>
                <a:latin typeface="Times New Roman"/>
              </a:rPr>
              <a:t>IRQ ve DMA ayarları bu bölümde yapılabilir. Böylece PC’nin daha stabil bir şekilde çalışmasını sağlamak mümkündü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3962520"/>
            <a:ext cx="2819160" cy="380880"/>
          </a:xfrm>
          <a:prstGeom prst="leftArrow">
            <a:avLst>
              <a:gd name="adj1" fmla="val 50000"/>
              <a:gd name="adj2" fmla="val 185043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38080" y="806400"/>
            <a:ext cx="800100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kkat etmeniz gerekenlerden sekizincisi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eripheral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639040" cy="4876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095880" y="2819520"/>
            <a:ext cx="297180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66"/>
                </a:solidFill>
                <a:latin typeface="Times New Roman"/>
              </a:rPr>
              <a:t>Integrated Peripherals’ dan “IDE HDD Block Mode” u açarsanız, bilgisayarınızın biraz hızlanmasını sağlamış olursunu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809880" y="3733920"/>
            <a:ext cx="2362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2971800" y="2666880"/>
            <a:ext cx="838080" cy="10670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azilogo" descr=""/>
          <p:cNvPicPr/>
          <p:nvPr/>
        </p:nvPicPr>
        <p:blipFill>
          <a:blip r:embed="rId1"/>
          <a:stretch/>
        </p:blipFill>
        <p:spPr>
          <a:xfrm>
            <a:off x="76320" y="763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98" name="gazilogo" descr=""/>
          <p:cNvPicPr/>
          <p:nvPr/>
        </p:nvPicPr>
        <p:blipFill>
          <a:blip r:embed="rId2"/>
          <a:stretch/>
        </p:blipFill>
        <p:spPr>
          <a:xfrm>
            <a:off x="8305920" y="763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99" name="genius" descr=""/>
          <p:cNvPicPr/>
          <p:nvPr/>
        </p:nvPicPr>
        <p:blipFill>
          <a:blip r:embed="rId3"/>
          <a:stretch/>
        </p:blipFill>
        <p:spPr>
          <a:xfrm>
            <a:off x="1676520" y="1981080"/>
            <a:ext cx="3047760" cy="3124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952880" y="2228760"/>
            <a:ext cx="3657600" cy="26845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TIK, BU AYARL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ULLANARA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İLGİSAYARINI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ERİMLİ BİR ŞEKİL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ÇALIŞTIRABİLİRSİNİ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şekkürler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AWARD BIOS AYARLARI</a:t>
            </a:r>
            <a:br>
              <a:rPr sz="5400"/>
            </a:b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590920"/>
            <a:ext cx="61722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&lt;BIOS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“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BİGİSAYARIN BEYNİ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  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&lt;BIO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computer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3962160" cy="2590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BIOS NEDİR?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</a:rPr>
              <a:t>(BASIC INPUT OUTPUT SYSTEM)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tr-TR" sz="2600" spc="-1" strike="noStrike">
                <a:solidFill>
                  <a:srgbClr val="000066"/>
                </a:solidFill>
                <a:latin typeface="Times New Roman"/>
              </a:rPr>
              <a:t>BIOS</a:t>
            </a: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, genel olara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bilgisayarın açılabilmesi içi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gerekli küçük bir yazılımdı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Bu yazılım, </a:t>
            </a:r>
            <a:r>
              <a:rPr b="0" lang="tr-TR" sz="2600" spc="-1" strike="noStrike">
                <a:solidFill>
                  <a:srgbClr val="000066"/>
                </a:solidFill>
                <a:latin typeface="Times New Roman"/>
              </a:rPr>
              <a:t>BIOS Chip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içinde tutulur. Anakartı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en önemli parçalarında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biridir. </a:t>
            </a:r>
            <a:r>
              <a:rPr b="0" lang="tr-TR" sz="2600" spc="-1" strike="noStrike">
                <a:solidFill>
                  <a:srgbClr val="330099"/>
                </a:solidFill>
                <a:latin typeface="Times New Roman"/>
              </a:rPr>
              <a:t>BIOS</a:t>
            </a: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 ilgili donanımın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tr-TR" sz="2600" spc="-1" strike="noStrike">
                <a:solidFill>
                  <a:srgbClr val="ff0000"/>
                </a:solidFill>
                <a:latin typeface="Times New Roman"/>
              </a:rPr>
              <a:t>beynidi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awrd_bios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505320" cy="4648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772400" cy="761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Times New Roman"/>
              </a:rPr>
              <a:t>PC’ niz daha verimli çalışsın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209680"/>
            <a:ext cx="6172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BIOS, bilgisayarınızın yüksek performansla çalışmasında oldukça önemli bir rol oyna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Bilgisayarın  performansını artır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gerekli BIOS ayarları üzerinde duracağı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572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tık siz de bu ayarları kendiniz yapabileceksiniz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2695680"/>
            <a:ext cx="1295280" cy="3933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66"/>
                </a:solidFill>
                <a:latin typeface="Times New Roman"/>
              </a:rPr>
              <a:t>Ayarları yapın ve PC’ niz daha hızlı çalışsı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3657600"/>
            <a:ext cx="51814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Bilgisayarınızı açtığınızda bu ayarlara nasıl ulaşabileceğinizi yazan “Press DEL to Enter Setup” yazısını gördüğünüzde, DEL tuşuna bası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İşte size BIOS’ un ayar penceres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9933"/>
                </a:solidFill>
                <a:latin typeface="Times New Roman"/>
              </a:rPr>
              <a:t>                                                   </a:t>
            </a:r>
            <a:r>
              <a:rPr b="0" lang="tr-TR" sz="1600" spc="-1" strike="noStrike">
                <a:solidFill>
                  <a:srgbClr val="ff9933"/>
                </a:solidFill>
                <a:latin typeface="Times New Roman"/>
              </a:rPr>
              <a:t>(Görmek için fareyi tıklayı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ana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806400"/>
            <a:ext cx="762012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kkat etmeniz gerekenlerden birincisi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gisayarınız ilk açılışta, sistemi bir defadan fazla test edebilir. Bunu engelleyerek açılışı hızlandırabilirsini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bıos_features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480" y="4038480"/>
            <a:ext cx="3581640" cy="24386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4114800"/>
            <a:ext cx="350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0099"/>
                </a:solidFill>
                <a:latin typeface="Times New Roman"/>
              </a:rPr>
              <a:t>Bios Features Setup bölümüne geçerek, “Quick Power On Test” ayarını “ENABLED”  yapın</a:t>
            </a:r>
            <a:r>
              <a:rPr b="0" lang="tr-TR" sz="2800" spc="-1" strike="noStrike">
                <a:solidFill>
                  <a:srgbClr val="33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428640" y="3276720"/>
            <a:ext cx="1219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327672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429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BUNUN İÇİ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806400"/>
            <a:ext cx="762012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kkat etmeniz gerekenlerden ikincisi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5238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gisayarınız açılışta, sürücü kontrolü yapar.A: sürücüsünü  kontrol ediyorsa, zaman kaybına sebep olur. Zaman kaybını önlemek içi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038480"/>
            <a:ext cx="3581640" cy="24386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4371840"/>
            <a:ext cx="350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0099"/>
                </a:solidFill>
                <a:latin typeface="Times New Roman"/>
              </a:rPr>
              <a:t>Bios Features Setup bölümüne geçerek, “Boot Sequence” ayarını “C only” yapın</a:t>
            </a:r>
            <a:r>
              <a:rPr b="0" lang="tr-TR" sz="2800" spc="-1" strike="noStrike">
                <a:solidFill>
                  <a:srgbClr val="33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429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BUNUN İÇİ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bıos_features" descr=""/>
          <p:cNvPicPr/>
          <p:nvPr/>
        </p:nvPicPr>
        <p:blipFill>
          <a:blip r:embed="rId1"/>
          <a:stretch/>
        </p:blipFill>
        <p:spPr>
          <a:xfrm>
            <a:off x="4491000" y="198108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3428640" y="3429000"/>
            <a:ext cx="1219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4038480"/>
            <a:ext cx="3581640" cy="24386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371840"/>
            <a:ext cx="350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0099"/>
                </a:solidFill>
                <a:latin typeface="Times New Roman"/>
              </a:rPr>
              <a:t>Yine aynı yerde “Boot Up Floppy Seek” ayarını “DISABLED” yapın</a:t>
            </a:r>
            <a:r>
              <a:rPr b="0" lang="tr-TR" sz="2800" spc="-1" strike="noStrike">
                <a:solidFill>
                  <a:srgbClr val="33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581280"/>
            <a:ext cx="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BUNUN İÇİ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bıos_features" descr=""/>
          <p:cNvPicPr/>
          <p:nvPr/>
        </p:nvPicPr>
        <p:blipFill>
          <a:blip r:embed="rId1"/>
          <a:stretch/>
        </p:blipFill>
        <p:spPr>
          <a:xfrm>
            <a:off x="4491000" y="198108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3428640" y="3581280"/>
            <a:ext cx="1219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587600"/>
            <a:ext cx="449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gisayarınız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açılışta, disket sürücünüzün düzgün çalışıp çalışmadığını kontrol etmektedir.  Bu da zaman kaybına sebep olur. Önlemek isterseniz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806400"/>
            <a:ext cx="79246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kkat etmeniz gerekenlerden üçüncüsü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806400"/>
            <a:ext cx="83818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kkat etmeniz gerekenlerden dördüncüsü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038480"/>
            <a:ext cx="3581640" cy="24386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371840"/>
            <a:ext cx="350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0099"/>
                </a:solidFill>
                <a:latin typeface="Times New Roman"/>
              </a:rPr>
              <a:t>Yine aynı yerde, “PCI/VGA Palette Snoop” ayarını “DISABLED” yapın</a:t>
            </a:r>
            <a:r>
              <a:rPr b="0" lang="tr-TR" sz="2800" spc="-1" strike="noStrike">
                <a:solidFill>
                  <a:srgbClr val="33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</a:rPr>
              <a:t>BUNUN İÇİ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bıos_features" descr=""/>
          <p:cNvPicPr/>
          <p:nvPr/>
        </p:nvPicPr>
        <p:blipFill>
          <a:blip r:embed="rId1"/>
          <a:stretch/>
        </p:blipFill>
        <p:spPr>
          <a:xfrm>
            <a:off x="4491000" y="198108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0880" y="15876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Renkleri doğru şekilde göstermeyen bir Mpeg kartına veya 3D kartına sahipseniz “PCI/VGA Palette Snoop” ayarını kullanın. Yoksa iptal ed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66720" y="457200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08:57:30Z</dcterms:created>
  <dc:creator>i.said.bilgic</dc:creator>
  <dc:description/>
  <dc:language>en-US</dc:language>
  <cp:lastModifiedBy>i.said.bilgic</cp:lastModifiedBy>
  <dcterms:modified xsi:type="dcterms:W3CDTF">2000-12-08T09:32:46Z</dcterms:modified>
  <cp:revision>95</cp:revision>
  <dc:subject/>
  <dc:title>Slayt Başlığı Yok</dc:title>
</cp:coreProperties>
</file>