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BB5-C09E-4692-946E-27C5CF47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362-5653-4CE6-87A7-53150C84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2C04-BEA4-49D5-A04B-ACF6EA1E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CD0C-1ED2-46F3-B1F2-DBE415F0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64D9-6040-49C4-A1A4-D5E95C36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9191-A725-4196-84FC-B6CBD22F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DC5D-2E48-49CD-8BB0-77D11184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4CDD-057A-4955-A447-E22D77BA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1B53-EDDE-47EA-83A9-D3B5F9B5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1639-E819-44AF-86FF-61FAAC03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3D99-1A39-47FD-968B-0421F66F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5476-6F7C-4424-94A0-EF4163D9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51A5-2196-4D38-9D39-EB3499FF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23E9-1875-412F-B170-B49FA57E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B049-AA06-454A-B122-ED7470FF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28A2-558D-4349-AB49-6C151567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C70C-4DF0-44E1-937F-4B50509D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29D-5500-447E-A557-A7D59D57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CA42-E4E2-465B-AC76-A3E78EF4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802-8EF7-425E-A81C-E5FEAA15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69C-7D8C-4E6C-8AB7-EC508A6D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70EA-73D2-4750-9CAB-C17C7FE2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A53E-AED7-41A3-963A-4AD8D9C0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728-E11A-4ACA-B162-F9E0B37D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89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6150-7B72-41FB-9E0F-775D8DE365BF}" type="datetime">
              <a:rPr b="1" lang="tr-TR" sz="1400" spc="-1" strike="noStrike">
                <a:solidFill>
                  <a:srgbClr val="eaeaea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0166-2D99-4A42-AA0C-99434CE0B4A7}" type="slidenum">
              <a:rPr b="0" lang="tr-T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ccecff"/>
                </a:solidFill>
                <a:latin typeface="Arial"/>
              </a:rPr>
              <a:t>ÇIKIŞ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-1411560" y="-633240"/>
            <a:ext cx="9066600" cy="8965080"/>
            <a:chOff x="-1411560" y="-633240"/>
            <a:chExt cx="9066600" cy="8965080"/>
          </a:xfrm>
        </p:grpSpPr>
        <p:sp>
          <p:nvSpPr>
            <p:cNvPr id="59" name=""/>
            <p:cNvSpPr/>
            <p:nvPr/>
          </p:nvSpPr>
          <p:spPr>
            <a:xfrm rot="12360000">
              <a:off x="-304560" y="532800"/>
              <a:ext cx="6852960" cy="6632280"/>
            </a:xfrm>
            <a:prstGeom prst="diamond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2360000">
              <a:off x="1092240" y="1884960"/>
              <a:ext cx="4058640" cy="3927240"/>
            </a:xfrm>
            <a:prstGeom prst="diamond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2360000">
              <a:off x="3561120" y="3943080"/>
              <a:ext cx="1030320" cy="4442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2360000">
              <a:off x="2041560" y="4050360"/>
              <a:ext cx="905040" cy="837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2360000">
              <a:off x="3757320" y="3225240"/>
              <a:ext cx="708120" cy="12816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2360000">
              <a:off x="3050280" y="4850640"/>
              <a:ext cx="706320" cy="12996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10800000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0485000">
              <a:off x="2045880" y="3531240"/>
              <a:ext cx="1149840" cy="245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41" y="9671"/>
                  </a:moveTo>
                  <a:arcTo wR="10800" hR="10800" stAng="-360000" swAng="1086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41" y="9671"/>
                  </a:moveTo>
                  <a:arcTo wR="10800" hR="10800" stAng="-360000" swAng="10860000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54520" y="2157120"/>
              <a:ext cx="1643400" cy="3185640"/>
            </a:xfrm>
            <a:custGeom>
              <a:avLst/>
              <a:gdLst/>
              <a:ahLst/>
              <a:rect l="l" t="t" r="r" b="b"/>
              <a:pathLst>
                <a:path w="1035" h="2007">
                  <a:moveTo>
                    <a:pt x="56" y="2006"/>
                  </a:moveTo>
                  <a:lnTo>
                    <a:pt x="0" y="1843"/>
                  </a:lnTo>
                  <a:lnTo>
                    <a:pt x="871" y="56"/>
                  </a:lnTo>
                  <a:lnTo>
                    <a:pt x="1034" y="0"/>
                  </a:lnTo>
                  <a:lnTo>
                    <a:pt x="56" y="2006"/>
                  </a:lnTo>
                </a:path>
              </a:pathLst>
            </a:cu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887640" y="2541600"/>
            <a:ext cx="514440" cy="366840"/>
          </a:xfrm>
          <a:custGeom>
            <a:avLst/>
            <a:gdLst/>
            <a:ahLst/>
            <a:rect l="l" t="t" r="r" b="b"/>
            <a:pathLst>
              <a:path w="324" h="231">
                <a:moveTo>
                  <a:pt x="321" y="226"/>
                </a:moveTo>
                <a:lnTo>
                  <a:pt x="287" y="123"/>
                </a:lnTo>
                <a:lnTo>
                  <a:pt x="53" y="9"/>
                </a:lnTo>
                <a:lnTo>
                  <a:pt x="35" y="0"/>
                </a:lnTo>
                <a:lnTo>
                  <a:pt x="0" y="72"/>
                </a:lnTo>
                <a:lnTo>
                  <a:pt x="323" y="230"/>
                </a:lnTo>
              </a:path>
            </a:pathLst>
          </a:custGeom>
          <a:solidFill>
            <a:srgbClr val="00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914400"/>
            <a:ext cx="7925040" cy="129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7556-5241-4467-B4C1-DEA70A4568EC}" type="datetime">
              <a:rPr b="0" lang="tr-TR" sz="1400" spc="-1" strike="noStrike">
                <a:solidFill>
                  <a:srgbClr val="eaeaea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06F6-362D-4C4F-B3B9-6871329DED39}" type="slidenum">
              <a:rPr b="0" lang="tr-T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ccecff"/>
                </a:solidFill>
                <a:latin typeface="Tahoma"/>
              </a:rPr>
              <a:t>Eternet Arayüzlü SmartCard Okuyucu/Yazıcı Projesi...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952520" y="3123720"/>
            <a:ext cx="39625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Murat ÖZDEMİ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V. Harun Şahi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Filiz İC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ccecff"/>
                </a:solidFill>
                <a:latin typeface="Arial"/>
              </a:rPr>
              <a:t>ÇIKIŞ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372600" y="0"/>
            <a:ext cx="3733920" cy="6613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nsert your company logo on this slid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the Insert Men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Picture”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e your logo fil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resize the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anywhere inside the logo. The boxes that appear outside the logo are known as “resize handles.”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se to resize the object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ou hold down the shift key before using the resize handles, you will maintain the proportions of the object you wish to resiz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contact_sc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85800" y="2666880"/>
            <a:ext cx="4000680" cy="2857680"/>
          </a:xfrm>
          <a:prstGeom prst="rect">
            <a:avLst/>
          </a:prstGeom>
          <a:ln w="0">
            <a:noFill/>
          </a:ln>
        </p:spPr>
      </p:pic>
      <p:pic>
        <p:nvPicPr>
          <p:cNvPr id="116" name="smartech" descr=""/>
          <p:cNvPicPr/>
          <p:nvPr/>
        </p:nvPicPr>
        <p:blipFill>
          <a:blip r:embed="rId2"/>
          <a:stretch/>
        </p:blipFill>
        <p:spPr>
          <a:xfrm>
            <a:off x="2590920" y="-685800"/>
            <a:ext cx="394308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2CE395A-9272-4404-8EDB-CA4A6ECB25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back1" descr=""/>
          <p:cNvPicPr/>
          <p:nvPr/>
        </p:nvPicPr>
        <p:blipFill>
          <a:blip r:embed="rId1"/>
          <a:stretch/>
        </p:blipFill>
        <p:spPr>
          <a:xfrm>
            <a:off x="0" y="0"/>
            <a:ext cx="4314960" cy="5524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Avantajları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"/>
              </a:rPr>
              <a:t>Magnetik şeritli kredi kartından daha güvenlidir,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"/>
              </a:rPr>
              <a:t>Gelişmiş güvenlik mekanızması sayesinde içindeki verileri korur,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"/>
              </a:rPr>
              <a:t>Kullanıldıktan sonra atıbilir ve tekrar kullanılabilir,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"/>
              </a:rPr>
              <a:t>Çok fonksiyonludur,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"/>
              </a:rPr>
              <a:t>Geniş kullanım alanı vardır,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"/>
              </a:rPr>
              <a:t>Taşınabilir elektronik cihazlara uyumludur (PC,PDA,telefon...),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"/>
              </a:rPr>
              <a:t>Yarı iletken teknolojisi ile birlikte çok hızlı gelişmektedir...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25DE0-69F1-4F2A-8D9F-8A1835D38B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karışık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7600680" cy="4914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Nerelerde Kullanılır?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b10"/>
                </a:solidFill>
                <a:latin typeface="Arial"/>
              </a:rPr>
              <a:t>Cep telefonları, Ankesörlü telefonl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b10"/>
                </a:solidFill>
                <a:latin typeface="Arial"/>
              </a:rPr>
              <a:t>Bankacılık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b10"/>
                </a:solidFill>
                <a:latin typeface="Arial"/>
              </a:rPr>
              <a:t>Sağlık Alanı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b10"/>
                </a:solidFill>
                <a:latin typeface="Arial"/>
              </a:rPr>
              <a:t>Taşımacılık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b1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b10"/>
                </a:solidFill>
                <a:latin typeface="Arial"/>
              </a:rPr>
              <a:t>...vs..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4B01D-10B9-4019-AD8E-589F737BA0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Boyutları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SmartCard’ın boyutları ISO 7810 standartlarında belirtilmişti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0" name="boyut" descr=""/>
          <p:cNvPicPr/>
          <p:nvPr/>
        </p:nvPicPr>
        <p:blipFill>
          <a:blip r:embed="rId1"/>
          <a:stretch/>
        </p:blipFill>
        <p:spPr>
          <a:xfrm>
            <a:off x="914400" y="3429000"/>
            <a:ext cx="3657600" cy="2332080"/>
          </a:xfrm>
          <a:prstGeom prst="rect">
            <a:avLst/>
          </a:prstGeom>
          <a:ln w="0">
            <a:noFill/>
          </a:ln>
        </p:spPr>
      </p:pic>
      <p:pic>
        <p:nvPicPr>
          <p:cNvPr id="151" name="contacts1" descr=""/>
          <p:cNvPicPr/>
          <p:nvPr/>
        </p:nvPicPr>
        <p:blipFill>
          <a:blip r:embed="rId2"/>
          <a:stretch/>
        </p:blipFill>
        <p:spPr>
          <a:xfrm>
            <a:off x="4800600" y="2971800"/>
            <a:ext cx="4191120" cy="34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C8343-71BC-46BA-A756-59E750FA10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Standartla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Standart : Sayısal iletişim için marka bağımsız tüm ürünlerin birbirleriyle karşılıklı çalışabilmeleri için konmuş kuralla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Standart belirleyen kuruluşlar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ANSI (American National Standarts Institu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IEEE (Institue of Electric Electronic Engineer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ITU (Internatinal Telecommunications Union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IETF (Internet Engineering Task Forc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eaeaea"/>
                </a:solidFill>
                <a:latin typeface="Arial"/>
              </a:rPr>
              <a:t>ISO (International Standarts Organiztion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EIA (Electronic Industries Association {RS232/422/423/449}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A7CF6-19E0-41B4-9A18-DF3CBD4CA6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ISO standartları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600200" y="2286000"/>
          <a:ext cx="6400800" cy="3681360"/>
        </p:xfrm>
        <a:graphic>
          <a:graphicData uri="http://schemas.openxmlformats.org/drawingml/2006/table">
            <a:tbl>
              <a:tblPr/>
              <a:tblGrid>
                <a:gridCol w="3200400"/>
                <a:gridCol w="3200400"/>
              </a:tblGrid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ISO 78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iziksel Karakteristikleri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ISO 78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ayıt Teknikleri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ISO 781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Üretici Kimlik Bilgileri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ISO 781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inansal IC Kartla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ISO 1037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est Metodları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ISO 781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Contact IC Kartla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411EB-10E9-4653-AFD7-6FA6955C43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ISO standartları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19814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71600" y="1981080"/>
          <a:ext cx="7086600" cy="380520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ISO 1053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tacless IC Kartlar (close coupling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ISO 1444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tacless IC Kartlar (remote coupling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ISO 979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ilgi Teknolojisi,Güvenlik mekanizmaları,Digital İmza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ISO 999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inansal kartlar. (Smartcard ile cihaz arasındaki mesajlaşma protokolleri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ISO 1020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inansal kartların güvenlik mimarisi..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D39FD-A545-40A9-858A-E7E8161447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ISO 7816 - 1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MSTT31c416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MSTT31c416"/>
              </a:rPr>
              <a:t>Mor ötesi ışı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MSTT31c416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MSTT31c416"/>
              </a:rPr>
              <a:t>X-ışınları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MSTT31c416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MSTT31c416"/>
              </a:rPr>
              <a:t>Kontakların Yüzey Profil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MSTT31c416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MSTT31c416"/>
              </a:rPr>
              <a:t>Kart ve kontakların mekanık dayanıklılığı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MSTT31c416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MSTT31c416"/>
              </a:rPr>
              <a:t>Kontakların elektriksel dayanıklılığı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MSTT31c416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MSTT31c416"/>
              </a:rPr>
              <a:t>IC Kart ve Manyetik şerti arası Elektromanyetik etkileşi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MSTT31c416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MSTT31c416"/>
              </a:rPr>
              <a:t>Elektromanyetik al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MSTT31c416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MSTT31c416"/>
              </a:rPr>
              <a:t>Statik Elektri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MSTT31c416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MSTT31c416"/>
              </a:rPr>
              <a:t>Isı Salınımı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B7E20-895F-4DB6-B700-17B3B0D31B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Sayısal Haberleşm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Paralel İleti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Seri İleti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Asenkron Seri İlet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Senkron Seri İlet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İsokron Seri İlet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CD02B-622E-4E86-8018-C51942C697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Asenkron Seri İletişim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Gönderici ve Alıcının ayrı CLK’lar kullandığı iletişim şeklidi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Gönderilecek verilerin başına ve sonuna ekstra bitler konur ; start,stop,parity..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Kod verimi düşüktü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19920" y="4267080"/>
            <a:ext cx="2868480" cy="13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4E132-5ADB-43D8-B45F-B4B5673C66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275520" y="4952880"/>
            <a:ext cx="2868480" cy="13766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Senkron Seri İletişim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Verilerin başına veya sonuna start,stop biteri konmaz,bunların yerine Önek ve sonek verileri konur. Daha çok veri birimi aynı çerçeve içinde iletili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Kod verimi yüksekti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Senkronizasyon ya ayrı bir kanaldan CLS sinyalinin iletimi ile ya da Frame syn. ve Bit syn. İle veri CLK ile modüleli </a:t>
            </a:r>
            <a:r>
              <a:rPr b="0" lang="tr-TR" sz="2800" spc="-1" strike="noStrike">
                <a:solidFill>
                  <a:srgbClr val="000b10"/>
                </a:solidFill>
                <a:latin typeface="Arial"/>
              </a:rPr>
              <a:t>gönderili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F31EB-F83B-4A97-B151-0A083BB77D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Projenin Amacı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Personel takip 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SmartCard’dan okunan sicil numarasının ethernet arayüz kartı ile UDP/IP paketi halinde internete açılması ve UDP Server programı bulunduran bir bilgisayar tarafından bu paketlerin dinlenip ayrıştırıldıktan sonra MySql veritabanından gelen sicil numarası ile ilgili kişi hakkında bilgi takibi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4281F-DD34-4C6E-A723-E46826394E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Isokron Seri İletişim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Senkron iletişimin bir çeşidi olarak düşünülebilir. Bu iletimde iki uçbirim arası seri haberleşmede periyodik olarak veri gönderilir/alını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Mesela her 125</a:t>
            </a:r>
            <a:r>
              <a:rPr b="0" lang="tr-TR" sz="3200" spc="-1" strike="noStrike">
                <a:solidFill>
                  <a:srgbClr val="eaeaea"/>
                </a:solidFill>
                <a:latin typeface="Symbol"/>
                <a:ea typeface="Symbol"/>
              </a:rPr>
              <a:t></a:t>
            </a: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s de bir 193 bit aktaran bir siste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Ses, video aktarımı gibi..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D2828-13BF-4EE8-9554-FDE5E82253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SmartCard ile iletişim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Asenkron half dublex seri iletişim ile haberleşili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Kartın kontaklarından C7 tek taraflı (half dublex) giriş çıkış portudur (I/O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Alma veya gönderme işlemi sıra ile yapılı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4" name="iso7816" descr=""/>
          <p:cNvPicPr/>
          <p:nvPr/>
        </p:nvPicPr>
        <p:blipFill>
          <a:blip r:embed="rId1"/>
          <a:stretch/>
        </p:blipFill>
        <p:spPr>
          <a:xfrm>
            <a:off x="5791320" y="4419720"/>
            <a:ext cx="2806560" cy="179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FD4EE-08ED-4EB4-AAFB-2B30114FDF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ISO 7816 - 3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eaeaea"/>
                </a:solidFill>
                <a:latin typeface="Arial"/>
              </a:rPr>
              <a:t>Etu = Elementary time unit (Temel zaman birimi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eaeaea"/>
                </a:solidFill>
                <a:latin typeface="Arial"/>
              </a:rPr>
              <a:t>Seri iletişim ;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eaeaea"/>
                </a:solidFill>
                <a:latin typeface="Arial"/>
              </a:rPr>
              <a:t>T=0 &gt;&gt; 1 start + 8 data + 1 parity + 2 Guard Time (+N Extra Guard Time) = 12 + N etu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eaeaea"/>
                </a:solidFill>
                <a:latin typeface="Arial"/>
              </a:rPr>
              <a:t>T=1 &gt;&gt; 1 start + 8 data + 1 parity + 1 Guard Time (+N Extra Guard Time) = 11 + N etu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eaeaea"/>
                </a:solidFill>
                <a:latin typeface="Arial"/>
              </a:rPr>
              <a:t>ATR </a:t>
            </a:r>
            <a:r>
              <a:rPr b="0" lang="tr-TR" sz="2200" spc="-1" strike="noStrike">
                <a:solidFill>
                  <a:srgbClr val="eaeaea"/>
                </a:solidFill>
                <a:latin typeface="Symbol"/>
                <a:ea typeface="Symbol"/>
              </a:rPr>
              <a:t></a:t>
            </a:r>
            <a:r>
              <a:rPr b="0" lang="tr-TR" sz="2200" spc="-1" strike="noStrike">
                <a:solidFill>
                  <a:srgbClr val="eaeaea"/>
                </a:solidFill>
                <a:latin typeface="Arial"/>
              </a:rPr>
              <a:t> Answer to Reset (Reset cevabı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eaeaea"/>
                </a:solidFill>
                <a:latin typeface="Arial"/>
              </a:rPr>
              <a:t>TS (Başlangıç Karakteri) &gt;&gt; Ön ek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eaeaea"/>
                </a:solidFill>
                <a:latin typeface="Arial"/>
              </a:rPr>
              <a:t>TO (Format Karakteri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eaeaea"/>
                </a:solidFill>
                <a:latin typeface="Arial"/>
              </a:rPr>
              <a:t>TAi , TBi , TCi , TDi  (Arayüz Karakterleri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eaeaea"/>
                </a:solidFill>
                <a:latin typeface="Arial"/>
              </a:rPr>
              <a:t>T1 ... TK  (Tarihsel Karakterler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eaeaea"/>
                </a:solidFill>
                <a:latin typeface="Arial"/>
              </a:rPr>
              <a:t>TCK (Kontrol Karakteri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3C048-A1D3-4015-BDCC-E9516E7B2F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ISO 7816 - 3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Seri iletişim protokolleri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T=0        Asenkron half dublex byte iletim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T=1        Asenkron half dublex blok iletim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T=2/3     Full dublex için reserv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T=4        Genişletilmiş full dublex için reserv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T=5..13  RFU (Reserved for further u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T=14</a:t>
            </a: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  Iso harici protokol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T=15</a:t>
            </a: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  RFU genişletmeleri içi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9600 bps </a:t>
            </a:r>
            <a:r>
              <a:rPr b="0" lang="tr-TR" sz="2800" spc="-1" strike="noStrike">
                <a:solidFill>
                  <a:srgbClr val="eaeaea"/>
                </a:solidFill>
                <a:latin typeface="Symbol"/>
                <a:ea typeface="Symbol"/>
              </a:rPr>
              <a:t></a:t>
            </a: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 800 baud (ATR &amp; PT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PTS </a:t>
            </a:r>
            <a:r>
              <a:rPr b="0" lang="tr-TR" sz="2800" spc="-1" strike="noStrike">
                <a:solidFill>
                  <a:srgbClr val="eaeaea"/>
                </a:solidFill>
                <a:latin typeface="Symbol"/>
                <a:ea typeface="Symbol"/>
              </a:rPr>
              <a:t></a:t>
            </a: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 Protokol Type Sel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00C2C-CBD2-4EE8-9B56-E711F1889C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Bazı Parametrel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FI &gt;&gt; CLK oranı dönüşüm faktör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DI &gt;&gt; Bit oranı ayarlama faktör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II &gt;&gt; Programlama akım çarpanı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PI &gt;&gt; Programlama voltaj çarpanı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N &gt;&gt; Extra Guard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Başlangıç Etusu =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Working Etu =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757840" y="3505320"/>
            <a:ext cx="3386160" cy="2906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343400" y="4114800"/>
                <a:ext cx="587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s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733920" y="5029200"/>
                <a:ext cx="9144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s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C48F6-4936-4C43-872F-5214AFE6DD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ccecff"/>
                </a:solidFill>
                <a:latin typeface="Arial Black"/>
              </a:rPr>
              <a:t>Protokol Tipi Seçimi (PTS)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PTSS</a:t>
            </a: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Başlangıç karakter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PTSO</a:t>
            </a: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Format Karakter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[b7 b6 b5 b4] [b3 b2 b1 b0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b7..b4 &gt;&gt; PTSi , b3.. b0 &gt;&gt; Protokol tip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PTS1     FI ve D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PTS2</a:t>
            </a: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 RF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PTS3</a:t>
            </a: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 RF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PCK</a:t>
            </a: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 Kontrol Karakter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37F6C-13B6-492E-979E-7ED0C7849A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ccecff"/>
                </a:solidFill>
                <a:latin typeface="Arial Black"/>
              </a:rPr>
              <a:t>T=0 protokolü; alma gönderme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76160" y="16765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Komut yapısı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Başlık + Dat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Başlık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CLA,INS,P1,P2,P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Komut tepki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NU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ACK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INS</a:t>
            </a:r>
            <a:r>
              <a:rPr b="0" lang="tr-TR" sz="2000" spc="-1" strike="noStrike">
                <a:solidFill>
                  <a:srgbClr val="eaeaea"/>
                </a:solidFill>
                <a:latin typeface="Symbol"/>
                <a:ea typeface="Symbol"/>
              </a:rPr>
              <a:t>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ACK=FF</a:t>
            </a:r>
            <a:r>
              <a:rPr b="0" lang="tr-TR" sz="20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 Vpp 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INS</a:t>
            </a:r>
            <a:r>
              <a:rPr b="0" lang="tr-TR" sz="2000" spc="-1" strike="noStrike">
                <a:solidFill>
                  <a:srgbClr val="eaeaea"/>
                </a:solidFill>
                <a:latin typeface="Symbol"/>
                <a:ea typeface="Symbol"/>
              </a:rPr>
              <a:t>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(ACK+1)=FE</a:t>
            </a:r>
            <a:r>
              <a:rPr b="0" lang="tr-TR" sz="20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 Vpp 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INS</a:t>
            </a:r>
            <a:r>
              <a:rPr b="0" lang="tr-TR" sz="2000" spc="-1" strike="noStrike">
                <a:solidFill>
                  <a:srgbClr val="eaeaea"/>
                </a:solidFill>
                <a:latin typeface="Symbol"/>
                <a:ea typeface="Symbol"/>
              </a:rPr>
              <a:t>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ACK!=00</a:t>
            </a:r>
            <a:r>
              <a:rPr b="0" lang="tr-TR" sz="20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 Vpp OFF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INS</a:t>
            </a:r>
            <a:r>
              <a:rPr b="0" lang="tr-TR" sz="2000" spc="-1" strike="noStrike">
                <a:solidFill>
                  <a:srgbClr val="eaeaea"/>
                </a:solidFill>
                <a:latin typeface="Symbol"/>
                <a:ea typeface="Symbol"/>
              </a:rPr>
              <a:t>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(ACK+1)! = 01</a:t>
            </a:r>
            <a:r>
              <a:rPr b="0" lang="tr-TR" sz="20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 Vpp OFF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SW1-SW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256536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EC6EA-E196-4136-A4E2-58DFEF3361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ccecff"/>
                </a:solidFill>
                <a:latin typeface="Arial Black"/>
              </a:rPr>
              <a:t>T=1 protokolü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Veri çerçeve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Giriş Alanı &gt;&gt; Akış kontrolü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Bilgi Alanı &gt;&gt;  Data alanı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Bitiş Alanı &gt;&gt; Hata düzelt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790596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FBBA4-5D81-4507-80A4-0DD9FD1466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ccecff"/>
                </a:solidFill>
                <a:latin typeface="Arial Black"/>
              </a:rPr>
              <a:t>PIC Mikrokontrolcüsü (MC)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PIC (PERIPHERAL INTERFACE CONTROLLER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eaeaea"/>
                </a:solidFill>
                <a:latin typeface="Arial"/>
              </a:rPr>
              <a:t>PIC</a:t>
            </a: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 Serisi mikroişlemciler MICROCHIP firması tarafından geliştirilmiş  ve üretim amacı  çok fonksiyonlu logic uygulamalarının hızlı ve ucuz bir  </a:t>
            </a:r>
            <a:br>
              <a:rPr sz="2400"/>
            </a:b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Mikroişlemci ile yazılım yoluyla karşılanmasıdı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İlk olarak 1994 yılında 16 bitlik ve 32 bitlik büyük  </a:t>
            </a:r>
            <a:br>
              <a:rPr sz="2400"/>
            </a:b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işlemcilerin giriş ve çıkışlarındaki yükü azaltmak ve denetlemek amacıyla çok hızlı ve ucuz bir çözüme ihtiyaç duyulduğu için geliştirilmişt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4" name="16c84" descr=""/>
          <p:cNvPicPr/>
          <p:nvPr/>
        </p:nvPicPr>
        <p:blipFill>
          <a:blip r:embed="rId1"/>
          <a:stretch/>
        </p:blipFill>
        <p:spPr>
          <a:xfrm>
            <a:off x="7010280" y="5334120"/>
            <a:ext cx="1676520" cy="10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48149-28E6-4250-9961-379FADB294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PIC16F876 özellikleri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Temel Özellikler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RISC işlemc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35 adet Assebly komut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8k x 14 kelimelik Flash Hafız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368 x 8 byte Data Hafız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256 x 8 byte EEPR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13 çevresel + 1 harici = 14 interru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8 seviyeli FIFO stac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Direct &amp; Indirect adresle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Düşük güçlü CMOS Flash/EEPROM teknoloji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ICSP (In circuit serial prog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2895480" cy="187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F3234-EA33-47EB-ADBC-FE5B507C51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ack&amp;contactless" descr=""/>
          <p:cNvPicPr/>
          <p:nvPr/>
        </p:nvPicPr>
        <p:blipFill>
          <a:blip r:embed="rId1"/>
          <a:stretch/>
        </p:blipFill>
        <p:spPr>
          <a:xfrm>
            <a:off x="5383080" y="4495680"/>
            <a:ext cx="3760920" cy="19432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SmartCard Nedir ?...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eaeaea"/>
                </a:solidFill>
                <a:latin typeface="Arial"/>
              </a:rPr>
              <a:t>SmartCard, içinde bir bilgisayar çipi içeren kredi kartı büyüklüğünde bir karttır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eaeaea"/>
                </a:solidFill>
                <a:latin typeface="Arial"/>
              </a:rPr>
              <a:t>Bu çip çeşitli bilgileri gelişmiş bir güvenlik mekanizmasıyla elektronik formda tutar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eaeaea"/>
                </a:solidFill>
                <a:latin typeface="Arial"/>
              </a:rPr>
              <a:t>SmartCardlar iki çeşittir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eaeaea"/>
                </a:solidFill>
                <a:latin typeface="Arial"/>
              </a:rPr>
              <a:t>Contact (temaslı) SmartCard’l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eaeaea"/>
                </a:solidFill>
                <a:latin typeface="Arial"/>
              </a:rPr>
              <a:t>Contactless (temassız) SmartCard’lar..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4AC1D-CC72-43BF-8D31-66BBBF72C6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PIC16F876 özellikleri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Çevresel Özellikler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Timer0: 8-bit timer/coun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Timer1: 16-bit timer/coun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Timer2: 8-bit timer/coun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İki Capture, Compare, PWM modu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Capture is 16-bit, max. resolution is 12.5 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Compare is 16-bit, max. resolution is 200 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PWM max. resolution is 10-bi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10-bit multi-channel Analog-to-Digital conver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Senkro Serial Port (SSP) + SPI (Mastermode) and I 2 C </a:t>
            </a:r>
            <a:r>
              <a:rPr b="0" lang="tr-TR" sz="2400" spc="-1" strike="noStrike">
                <a:solidFill>
                  <a:srgbClr val="eaeaea"/>
                </a:solidFill>
                <a:latin typeface="Symbol"/>
                <a:ea typeface="Symbol"/>
              </a:rPr>
              <a:t></a:t>
            </a: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(Master/Slav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65B33-0CDA-49CA-8A9D-2373DF5DC7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PIC16F876 özellikleri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eaeaea"/>
                </a:solidFill>
                <a:latin typeface="Arial"/>
              </a:rPr>
              <a:t>Universal Synchronous Asynchronous Receiver Transmitter (USART/SCI) with 9-bit address dete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eaeaea"/>
                </a:solidFill>
                <a:latin typeface="Arial"/>
              </a:rPr>
              <a:t>Parallel Slave Port (PSP) 8-bits wide, with external RD, WR and CS controls (40/44-pin only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4861D-5FF5-4CC0-851C-3DFBF714E6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PIC16F876 Yapısı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95280" y="1676520"/>
            <a:ext cx="2438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3 adet por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Flash , Data , EEPROM Hafız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828960" y="1600200"/>
            <a:ext cx="5162760" cy="46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9834E-6FF0-4D46-8801-16FD569F2B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cecff"/>
                </a:solidFill>
                <a:latin typeface="Arial Black"/>
              </a:rPr>
              <a:t>PIC16F876 Assembly komutları</a:t>
            </a:r>
            <a:endParaRPr b="0" lang="en-US" sz="28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4122720" cy="4267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840280" y="1676520"/>
            <a:ext cx="290520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B7F70-A56A-4F5E-B7C6-AF2D228328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cecff"/>
                </a:solidFill>
                <a:latin typeface="Arial Black"/>
              </a:rPr>
              <a:t>PIC16F876 Assembly komutları</a:t>
            </a:r>
            <a:endParaRPr b="0" lang="en-US" sz="28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5753160" cy="531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BE037-0473-4483-A12B-A705A07BFD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67080" y="1519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IFD tasarımı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211" name="smartech" descr=""/>
          <p:cNvPicPr/>
          <p:nvPr/>
        </p:nvPicPr>
        <p:blipFill>
          <a:blip r:embed="rId1"/>
          <a:stretch/>
        </p:blipFill>
        <p:spPr>
          <a:xfrm>
            <a:off x="1066680" y="-457200"/>
            <a:ext cx="3943440" cy="2514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286000" y="1371600"/>
            <a:ext cx="5570640" cy="49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AA36D-5C48-49DC-BFF8-CB19B84067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ISO 7816 – 4 ve Yazılım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APDU (Aplication Protocol Data Unit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T=0 için komut yapısı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[CLA + INS + P1 + P2] + [Lc + Data + Le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Başlık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Master File , Dedicated File , Elemantary Fil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Dosya Referanslama Metodları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Path (3F00:XXXX:YYY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DF name (16 byte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File Identifier (2 byte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Short F.I. (5 bi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Data Referanslama Metodları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Transparent , Record , Data Objec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T=0 için komut cevabı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SW1 – SW2 (Procedure Byteları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31D91-F2C7-4094-B756-75BDDC0118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Procedure Byte’ları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lvl="2" marL="1017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Mesela PTS için gelebilecek SW1-SW2 çiftleri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017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 u="sng">
                <a:solidFill>
                  <a:srgbClr val="eaeaea"/>
                </a:solidFill>
                <a:uFillTx/>
                <a:latin typeface="Arial"/>
              </a:rPr>
              <a:t>   </a:t>
            </a:r>
            <a:r>
              <a:rPr b="1" lang="tr-TR" sz="1800" spc="-1" strike="noStrike" u="sng">
                <a:solidFill>
                  <a:srgbClr val="eaeaea"/>
                </a:solidFill>
                <a:uFillTx/>
                <a:latin typeface="Arial"/>
              </a:rPr>
              <a:t>SW1      –     SW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96                00    Komut kabul edildi,sorun yok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62                81    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Geri dönen data bozuk olabili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62                82    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Okuma bitmeden dosyanın sonuna ulaşılmış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62                84    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Seçilen alanlar geçerli deği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65                01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Hafıza 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/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 EEPROM’da yazma 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/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 okuma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hatası.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68                00   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Talep fonksiyonu kart tarafından desteklenmiy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6A               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00   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 P1 ve/veya P2 byte’lar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 yanl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ış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6A 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  80    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Veri alanındaki parametreler yanl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ış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6A     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  82    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Dosya bulunamadı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6A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  83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  Kayıt bulunamadı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6A        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  84   </a:t>
            </a: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Kayıt veya dosyada yeterli hafıza alan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  <a:ea typeface="Times New Roman"/>
              </a:rPr>
              <a:t> yok</a:t>
            </a:r>
            <a:r>
              <a:rPr b="0" lang="tr-TR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08A9C-1884-490A-8A4A-24F61887FE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Kullanılan Komutla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Select Fi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Mantıksal Kanal açarak dosya seçimi yap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00 (CLA), A4 (INS), 08 (P1&gt;&gt;yol ile), 00 (P2&gt;&gt;record referanslama), 06 (P3&gt;&gt;La), 3F , 00 , 00 , 0F , 01 (MF&gt;DF&gt;EF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Read Record</a:t>
            </a: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Seçtiğimiz record yapısındaki dosyadan veri oku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eaeaea"/>
                </a:solidFill>
                <a:latin typeface="Arial"/>
              </a:rPr>
              <a:t>00 (CLA), B2 (INS), 01 (P1&gt;&gt;record numarası), 04 (P2&gt;&gt;ilk record’dan başla), 08 (P3&gt;&gt;Le(okunacak byte)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Write Recor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58D75-74C4-4148-BA89-35E7551DA0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ccecff"/>
                </a:solidFill>
                <a:latin typeface="Arial Black"/>
              </a:rPr>
              <a:t>PIC16F876 Programlama</a:t>
            </a: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Seri veya Paralel port üzerinden çalışan bir yazılım ile MPLAB geliştirme ortamında yazdığımız programı PIC’e yükleriz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Yazılan Programın top. Uzunluğu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1765 satır (Assebly satırı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6 kbyte (Hex dosyası boyutu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UDP Stack + CS8900A Driver’ı hariç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26A77-548E-422B-B580-DF1472AA09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fabrikasyon" descr="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Çip Yapısı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Şekilde SmartCard’ın içerdiği bilgisayar çipinin temel yapısı yörülüyo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5" name="SC-CPU" descr=""/>
          <p:cNvPicPr/>
          <p:nvPr/>
        </p:nvPicPr>
        <p:blipFill>
          <a:blip r:embed="rId2"/>
          <a:stretch/>
        </p:blipFill>
        <p:spPr>
          <a:xfrm>
            <a:off x="2209680" y="3048120"/>
            <a:ext cx="4419720" cy="31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D39D1-24DD-4D36-94F3-4A5017E0EC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Contact SmartCar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Kredi kartının magnetik şeridi yerine ön tarafında çapı yaklaşık ½ inç büyüklüğünde olan altın renkli çip kontakları bulunduru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Boyutları ISO 7810 standartında verilmiştir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8" name="contact_sc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3657600" cy="2613240"/>
          </a:xfrm>
          <a:prstGeom prst="rect">
            <a:avLst/>
          </a:prstGeom>
          <a:ln w="38160">
            <a:solidFill>
              <a:srgbClr val="ccecff"/>
            </a:solidFill>
            <a:prstDash val="sysDot"/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135BB-373F-4708-AB6F-809796C017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Kontakların yapısı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Contact SmartCard’ın  üzerindeki kontak yerleşimleri iki şekildedir 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AFNOR ve ISO7816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eaeaea"/>
                </a:solidFill>
                <a:latin typeface="Arial"/>
              </a:rPr>
              <a:t>C1 &gt;Vcc , C2 &gt;Reset , C3 &gt;CLK , C4 &gt;NC , C5 &gt;GND , C6 &gt;Vpp , C7 &gt;I/O , C8 &gt;NC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1" name="afnor" descr=""/>
          <p:cNvPicPr/>
          <p:nvPr/>
        </p:nvPicPr>
        <p:blipFill>
          <a:blip r:embed="rId1"/>
          <a:stretch/>
        </p:blipFill>
        <p:spPr>
          <a:xfrm>
            <a:off x="2438280" y="4419720"/>
            <a:ext cx="2806920" cy="1790640"/>
          </a:xfrm>
          <a:prstGeom prst="rect">
            <a:avLst/>
          </a:prstGeom>
          <a:ln w="0">
            <a:noFill/>
          </a:ln>
        </p:spPr>
      </p:pic>
      <p:pic>
        <p:nvPicPr>
          <p:cNvPr id="132" name="iso7816" descr=""/>
          <p:cNvPicPr/>
          <p:nvPr/>
        </p:nvPicPr>
        <p:blipFill>
          <a:blip r:embed="rId2"/>
          <a:stretch/>
        </p:blipFill>
        <p:spPr>
          <a:xfrm>
            <a:off x="5791320" y="4419720"/>
            <a:ext cx="2806560" cy="179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DF258-1865-459C-ADB6-2CBF2C21CE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Kontakla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C1 – Vcc (+5.0 volt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C2 – RST (Reset sinyali girişi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C3 – CLK (Clock girişi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C4 – N.C. (Not Connected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C5 – GND (Toprak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C6 – Vpp (EEPROM Prog. Voltajı ; +21 V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C7 – I/O (Seri Giriş Çıkış Portu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eaeaea"/>
                </a:solidFill>
                <a:latin typeface="Arial"/>
              </a:rPr>
              <a:t>C8 – N.C. (Not Connected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5" name="iso7816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2806560" cy="179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526F8-156A-4ECE-8147-53EEA67E34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Contactless SmartCar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Bir kredi kartı gibi görünen,bir bilgisayar çipi ve anten içeren bir SmartCard çeşididi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eaeaea"/>
                </a:solidFill>
                <a:latin typeface="Arial"/>
              </a:rPr>
              <a:t>Bu anten başka contactless smartcard ile veya cihazla haberleşmek için kullanılı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CL_SC" descr=""/>
          <p:cNvPicPr/>
          <p:nvPr/>
        </p:nvPicPr>
        <p:blipFill>
          <a:blip r:embed="rId1"/>
          <a:stretch/>
        </p:blipFill>
        <p:spPr>
          <a:xfrm>
            <a:off x="3048120" y="3581280"/>
            <a:ext cx="3657600" cy="2613240"/>
          </a:xfrm>
          <a:prstGeom prst="rect">
            <a:avLst/>
          </a:prstGeom>
          <a:ln w="38160">
            <a:solidFill>
              <a:srgbClr val="ccecff"/>
            </a:solidFill>
            <a:prstDash val="sysDot"/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DDCAD-BDB8-4DBD-8CDC-F4F613F746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ecff"/>
                </a:solidFill>
                <a:latin typeface="Arial Black"/>
              </a:rPr>
              <a:t>Combi SmartCar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eaeaea"/>
                </a:solidFill>
                <a:latin typeface="Arial"/>
              </a:rPr>
              <a:t>Hem Contact hem de Contactless olan SmartCard çeşididir..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1" name="COMBI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3962520" cy="3504960"/>
          </a:xfrm>
          <a:prstGeom prst="rect">
            <a:avLst/>
          </a:prstGeom>
          <a:ln w="28440">
            <a:solidFill>
              <a:srgbClr val="ccecff"/>
            </a:solidFill>
            <a:prstDash val="sysDot"/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5B0C3-0990-42A1-B129-160ECC307C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0T17:35:15Z</dcterms:created>
  <dc:creator>Murat</dc:creator>
  <dc:description/>
  <dc:language>en-US</dc:language>
  <cp:lastModifiedBy>Murat</cp:lastModifiedBy>
  <cp:lastPrinted>1995-12-08T18:02:18Z</cp:lastPrinted>
  <dcterms:modified xsi:type="dcterms:W3CDTF">2001-06-22T01:22:57Z</dcterms:modified>
  <cp:revision>84</cp:revision>
  <dc:subject/>
  <dc:title>Eternet Arayüzlü SmartCard Okuyucu/Yazıcı Projesi...</dc:title>
</cp:coreProperties>
</file>