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04B-F9C6-469A-B722-1C255BA3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469-E595-4356-B35E-16AD8DB6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D96-D6D1-4015-BE26-98237EC8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118-5C06-4205-A99F-84FDA8DC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2164-3930-4F39-A96E-CD85D9F6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7E9F-CF6F-488B-9C14-DF9242F0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F0C2-1DA4-49D2-9AE4-1FBC8BB6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68B8-AE64-40E2-8D98-B491EC40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75F6-495A-4AB1-83DE-92156607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C588-DB19-46D7-9104-EBC3F6C4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B58C-0985-4586-8315-2BA3D6B1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ACE-6053-4D36-9182-382977D5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34FB-D682-4A51-B5D5-6845BE7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8636-EF16-4F88-9881-8AA4F8DC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68DB-D947-4FB2-B347-F62AEBBF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BA39-E520-4295-91DC-D96225BB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A8E6-009C-425C-A293-94970940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8CB-8F94-4A06-8BBB-117ECBC9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98B-8616-4343-AB71-200EFE6A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799-2C9C-44AB-876A-3C82EC5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9F0-6E02-4493-A6E1-D65706B8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12C-F83F-4BB3-A007-DC07C5C6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D4F-C446-4AE6-BD3F-15B6AD0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1BC-8C51-4008-97D4-60F16D96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7134-D7DA-4424-92E5-DF6FA55470CD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DA52-18B9-44AD-A39D-93DB08E633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6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736-9F31-4E32-9EFE-1C586225D531}" type="datetime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21D6-C1CE-40EB-9A3C-CBDAF4CA922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slide" Target=""/><Relationship Id="rId6" Type="http://schemas.openxmlformats.org/officeDocument/2006/relationships/image" Target="../media/image1.jpeg"/><Relationship Id="rId7" Type="http://schemas.openxmlformats.org/officeDocument/2006/relationships/slide" Target="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&lt;XYZ Corporation&gt;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uman Resources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formation Kios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dd 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rporat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ogo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XI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72600" y="0"/>
            <a:ext cx="3733920" cy="6613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sert your company logo on this sli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Insert Men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Picture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your logo fi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size the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anywhere inside the logo. The boxes that appear outside the logo are known as “resize handles.”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se to resize the object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hold down the shift key before using the resize handles, you will maintain the proportions of the object you wish to resiz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596B7DC-FD24-4421-A640-5632119101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Services Directory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formance Revie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rformance Improv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cruiting/Transfers/Termin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ves &amp; Disa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ensation &amp; Benefi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>
            <a:hlinkClick r:id="rId7" action="ppaction://hlinksldjump"/>
          </p:cNvPr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XI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MAIN 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D61DA-DD5F-468C-B788-D41054EABE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erminatio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Policies &amp;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Contacts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&amp; For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Compensation 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9596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Termination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Policies &amp; Law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Resignation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For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Termination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For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HR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Conta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Alternatives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 Narrow"/>
              </a:rPr>
              <a:t>to Termin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0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1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2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3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44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372600" y="304920"/>
            <a:ext cx="3581280" cy="603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sample docu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 and replace with working document icons as follow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Insert Menu, select Object..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Create from File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File name in “File” box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“Display as Icon” is checke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ic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lide Show Menu, Select “Action Settings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“Object Action” and select “Edit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XI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MAIN 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EMPLOYMENT 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9BCA5-97D2-4170-ADFB-F76CCF353E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24:15Z</dcterms:created>
  <dc:creator>aa</dc:creator>
  <dc:description/>
  <dc:language>en-US</dc:language>
  <cp:lastModifiedBy>aa</cp:lastModifiedBy>
  <cp:lastPrinted>1995-12-08T18:02:18Z</cp:lastPrinted>
  <dcterms:modified xsi:type="dcterms:W3CDTF">2001-06-21T22:25:33Z</dcterms:modified>
  <cp:revision>1</cp:revision>
  <dc:subject/>
  <dc:title>&lt;XYZ Corporation&gt;</dc:title>
</cp:coreProperties>
</file>